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B25-9D1D-4D45-A506-99B23369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410-22DD-44B3-9CB7-14EFF071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5DE-E462-4D30-B921-0A4581B4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18E-7B9F-4B90-B4D9-4F0F5E2C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A3C-8EF5-4211-9530-F4A0DE28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AD2-754D-4023-8D3C-271ACA2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843-AF06-4D36-8C5B-D0FFB21C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BF7-4293-435C-AB82-F1851F14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965-C232-42EA-AFC4-9218D680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3C9-E225-4C9A-BCCE-666AA98A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139-F72E-4844-BDF3-A509AA11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D5D-2C4E-49F8-9CE1-69E3AC36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2DE7-5CEE-4AFD-B4A5-3678FA2C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2 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tomic Mass – an average of all the elements’ isotopes (different # of neutrons compared to pro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Elements – 3 main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tals – majority of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ood conductors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200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lid at room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are malleable (can be sha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114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are ductile (drawn into thin w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und left of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t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145200" cy="213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3429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 = elements in groups 3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8862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rm a bridge between elements on the left side and right side of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724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have more properties in common than elements in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metals: mercury, aluminum, copper, nicke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,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onmetals – to the right of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t2" descr=""/>
          <p:cNvPicPr/>
          <p:nvPr/>
        </p:nvPicPr>
        <p:blipFill>
          <a:blip r:embed="rId1"/>
          <a:stretch/>
        </p:blipFill>
        <p:spPr>
          <a:xfrm>
            <a:off x="0" y="1828800"/>
            <a:ext cx="8991720" cy="270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4343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or conductors of electricity/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ny are gasses at room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181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/chemical properties vary grea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nonmetals: flourine (most rea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ur, oxygen, 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etalloids – the elements that form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905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all between metals and non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hare characteristics of both metals and non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048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metalloids:  silicon, Ars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across a period – properties within a period change in similar ways from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267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cross a period (from L to R) the elements become less metallic and more non-metallic in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20:54Z</dcterms:created>
  <dc:creator>Farwell Area Schools</dc:creator>
  <dc:description/>
  <dc:language>en-US</dc:language>
  <cp:lastModifiedBy>Farwell Area Schools</cp:lastModifiedBy>
  <dcterms:modified xsi:type="dcterms:W3CDTF">2008-09-19T18:39:13Z</dcterms:modified>
  <cp:revision>7</cp:revision>
  <dc:subject/>
  <dc:title>Note Guide 2-2 day 2</dc:title>
</cp:coreProperties>
</file>